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6B0C9E-76B3-4AB4-A658-3F9FFA109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6DE2CF7-27DF-418C-B54E-254DC887DC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3CA4D3E-B513-4201-BE13-C41011E6E5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D43F62B-D925-4990-966A-50984628DD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205336F-7A8F-4B1D-8174-05D0A68AC7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Num" idx="1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A834E90-8D6D-4383-9FC1-4FC86B5733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63F1CB5-2DB8-44BD-992A-C107FC4C56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1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F9677BE-7DFC-4525-B208-571A01AA1A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A9707C7-006D-4BD2-9702-D086DA50AA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1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317781D-6AB4-4E09-B065-619F884B9A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81E1FC3-4DE9-4BBF-A08B-E783955004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Num" idx="1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7CC5C9F-C316-431A-8A8A-0B1A1BB461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E80D3FA-CD44-46F6-B7C7-8EEEE1C7A8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Num" idx="2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BF2958D-C871-4257-96BD-ED369646B9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DE2949C-9D69-414A-891A-EF0E601E5F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Num" idx="2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49139C9-4F64-4A5D-8C1C-DA91FCB2F4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511A685-A012-4057-A8E6-AD1082AB27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Num" idx="2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DAEFA9B-099E-4735-A0F8-57DBCE8B46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C413BCA-87E8-4FC8-8519-F6AC82519D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Num" idx="2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5D9F1CA-2DC9-4786-AB30-E7E9D1FD7A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2D9AF0C-FADA-4435-AAA8-6B64E7B959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Num" idx="2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23B211A-A8FC-4FE7-8EDA-D605EB1AAE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A4DFC92-3905-4B38-B914-7B86CDDBC1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14F98AD-6AD4-4763-B590-44DDE9F960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C8765FC-8040-43DA-8A5C-F0A5BBF470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Num" idx="2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EAB5796-FEFD-4D2C-B69F-C73AB0BD83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4994688-F708-456F-A105-1D050142D2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Num" idx="2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EDC4231-3CDD-4539-91D0-39877CEEF9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248F9DD-77DD-425C-A007-59C160D9C7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28ABECC-C2AB-42F0-AA33-4FD8A970FF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1BAA23B-57EA-4042-965B-F75966A716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Num" idx="2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C11ED32-DC23-4003-B15E-4B1D7124DD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675F1CB-4036-4254-982C-FCD418B707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2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0A8AAC2-CF08-450D-BE4D-5F3C040A4F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97591A4-66ED-4040-9932-15C6696777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8B2E598-7F38-41BD-9F5A-C3041F0ACE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D7566FA-7BB5-4B20-ADE2-4FB63C800A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3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1D15435-F57D-4210-A110-AB7800CF23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C9CA8D9-2C37-4714-8774-5F6DB89057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Num" idx="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3BE7DBC-948F-4A18-8ECA-B974C5CE26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EE26FC1-E525-418F-B5E0-2DE3F63125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A5B212A-7C69-4294-B3B7-1A0D001A81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4845E51-DC59-45E9-9E2B-8B9A2B6DAF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1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BAC3F06-8350-4955-BD1C-2D1F914E9B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94879A0-DB00-424C-842D-57B26FBD9B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E0EABCD-67A5-446C-A6B7-866524C6C9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D58DE6B-FC2E-4A4B-ABC6-38EB936FAB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1A2E1DE-DE54-4BFC-8C42-6E116C5BF5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2534FFE-7291-4E79-8C06-8233B40D38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Num" idx="1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8B469CE-8A10-42EB-AFFA-B86C1DCC19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DA4E63C-D460-4B32-A35F-B2221C2BCB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B9B12A4-4E52-4171-9F4B-FABFE11425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DFA013E-10BD-4900-91F5-616EC51289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0E6C-FC30-4BEF-BE9B-EB5AA4354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0AB6-D0E1-45EA-B6E4-19F576CF9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4C36-2C6C-4024-85C0-DCC13BBF5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9C07-F972-4E63-B523-5FAC96602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069C-A309-4761-AFF6-CF629D193D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E4BB-AC6D-477B-98DF-2C3660ECD4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DAD0-8186-47B3-A29F-E297F37E36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0010-CB02-4981-8B64-B764AE0600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4544-7C72-4E39-93AE-1D59EDE5FE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56CA-24B5-4A6C-953D-65991107DA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D9D0-3FC8-4980-A2A4-3EAB2DC09A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4B99-F1DF-4C5A-ADE7-C151357D4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7604-03B0-486C-B04E-082DE9532F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2DED1-6320-4930-B3E9-ABA8509491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1E24-E41C-47B3-9EA7-805563A57E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45D8-2222-4BC7-A979-A7D6BCD949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DF521-AA05-4645-9086-98F32FBFFD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AE13-33EF-4CC3-AB95-6588A1642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130A-B9AD-4901-A633-DF616744B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48DA-7970-4E38-9DFE-B7F0B3EDC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DF5D-94FD-4EB8-A7F3-C08008E27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AA2C-76F0-40C4-AE7B-9A23C97B7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CC7E-E9CB-4C3B-9C7D-2F434BEBA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6FAD-EA14-45A4-AA18-75B4BCBC1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43B7FCF-6E75-45E4-A9BA-19C0F0CF33D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заголовка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1976400" y="5916600"/>
            <a:ext cx="6048000" cy="887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текста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C0E34E5-CF22-4E3B-A1C7-90F425D838F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6360"/>
            <a:ext cx="90705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04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360360" y="3494160"/>
            <a:ext cx="59749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Единый урок памя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к 75-летию Великой Побед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397320" y="6351480"/>
            <a:ext cx="4357440" cy="999720"/>
          </a:xfrm>
          <a:prstGeom prst="rect">
            <a:avLst/>
          </a:prstGeom>
          <a:noFill/>
          <a:ln w="9525">
            <a:solidFill>
              <a:srgbClr val="aae2ca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SimSun"/>
              </a:rPr>
              <a:t>Презентация для 1 класс МБОУ СОШ № 7 им Кошевого Ф. А. Учитель Николаева В.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896760" y="5708520"/>
            <a:ext cx="81370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се люди поднялись на защиту своей Род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325520" y="779400"/>
            <a:ext cx="7429320" cy="473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969160" y="350640"/>
            <a:ext cx="3733560" cy="575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253800" y="2779560"/>
            <a:ext cx="5234040" cy="3580920"/>
          </a:xfrm>
          <a:prstGeom prst="rect">
            <a:avLst/>
          </a:prstGeom>
          <a:ln w="9525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0" y="851040"/>
            <a:ext cx="5754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фронт шли не только воины нашей армии, но даже дети нередко убегали из дома, чтобы воевать с фаши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3683160" y="755640"/>
            <a:ext cx="5643360" cy="58100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287280" y="1042920"/>
            <a:ext cx="2736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0" y="1116000"/>
            <a:ext cx="3095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ервыми приняли на себя удар фашистского нашествия пограничники. Они оказали врагу героическое сопроти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5397480" y="755640"/>
            <a:ext cx="4682880" cy="3278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0" y="779400"/>
            <a:ext cx="33969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оины писали на стенах Брестской крепости «Умрём, но из крепости не уйдё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ekz1.jpg"/>
          <p:cNvPicPr/>
          <p:nvPr/>
        </p:nvPicPr>
        <p:blipFill>
          <a:blip r:embed="rId3"/>
          <a:stretch/>
        </p:blipFill>
        <p:spPr>
          <a:xfrm>
            <a:off x="0" y="3351240"/>
            <a:ext cx="6397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10080360" cy="756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6826320" y="4137120"/>
            <a:ext cx="2928600" cy="25221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0" y="779400"/>
            <a:ext cx="332532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сенью 1941 года фашисты начали наступление на Москву- на столицу нашей Родины. Гитлер приказал взять Москву любой ценой. Немецкие генералы готовили свои войска к параду на Красной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3397320" y="851040"/>
            <a:ext cx="5289120" cy="3285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325520" y="851040"/>
            <a:ext cx="745020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216000" y="3476520"/>
            <a:ext cx="94327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арад на Красной площади состоялся, но не тот, о котором мечтал Гит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095640" y="826920"/>
            <a:ext cx="6735240" cy="5238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216000" y="971640"/>
            <a:ext cx="2879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7 нояб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1941 года состоялся традиционный парад советских войск. И прямо с парада бойцы уходили на фро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2540160" y="1692360"/>
            <a:ext cx="523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«Велика Россия, а отступать некуда, позади – Москва- так говорили наши бойцы и стояли насмерть. И они выстояли. После окончания войны городу Москве было присвоено звание «Город-гер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4230720" y="755640"/>
            <a:ext cx="5538600" cy="35953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489560" y="3208320"/>
            <a:ext cx="5590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войне сражались не только мужчины, но и жен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0" y="3734640"/>
            <a:ext cx="4825800" cy="298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6326280" y="851040"/>
            <a:ext cx="3317400" cy="454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468360" y="993600"/>
            <a:ext cx="4357440" cy="43574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863640" y="3476520"/>
            <a:ext cx="8280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ни были медсестрами, врачами, связистами, разведч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282600"/>
            <a:ext cx="906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800360" y="900000"/>
            <a:ext cx="7488000" cy="4584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19280" y="5651640"/>
            <a:ext cx="8784720" cy="1152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На рассвете 22 июня 1941 года, на мирные, ещё спящие города и села нашей Родины, с аэродромов поднялись в воздух немецкие самолеты с бомбами.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376360" y="826920"/>
            <a:ext cx="7198920" cy="5040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360360" y="1116000"/>
            <a:ext cx="201564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Многих солдат спасли от смерти добрые женские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440000" y="250920"/>
            <a:ext cx="8349840" cy="52192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3"/>
          <p:cNvSpPr/>
          <p:nvPr/>
        </p:nvSpPr>
        <p:spPr>
          <a:xfrm>
            <a:off x="1295280" y="3476520"/>
            <a:ext cx="84974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в тылу старики, женщины, дети работали на заводах и фабр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3468600" y="2208240"/>
            <a:ext cx="6611760" cy="4431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253800" y="851040"/>
            <a:ext cx="3314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И днем и ночью делали снаряды, оружие для фронта, шили обмундирование для армии и многое друг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968560" y="993600"/>
            <a:ext cx="6907680" cy="52858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3"/>
          <p:cNvSpPr/>
          <p:nvPr/>
        </p:nvSpPr>
        <p:spPr>
          <a:xfrm>
            <a:off x="287280" y="900000"/>
            <a:ext cx="259200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ойна длилась долгих четыре года. Наша доблестная армия не только прогнала немцев с нашей земли, но и освободила народы других стран, захваченных гитлеровской Герма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5254560" y="779400"/>
            <a:ext cx="4512240" cy="32396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216000" y="1042920"/>
            <a:ext cx="2520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ши солдаты дошли до Берлина — столицы Германии. И там, на самом главном здании, которое называлось Рейхстагом, был водружен наш флаг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2825640" y="3994200"/>
            <a:ext cx="4473720" cy="2800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754360" y="1208160"/>
            <a:ext cx="7137360" cy="4884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216000" y="1042920"/>
            <a:ext cx="2520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24 июня 1945 года в Москве состоялся парад Победы, на котором к стенам Кремля были брошены фашистские фл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4896000" y="3089160"/>
            <a:ext cx="518436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SimSun"/>
              </a:rPr>
              <a:t>9 мая 1945 года закончилась война, и тот день стал самым светлым и любимым праздником — Днем Победы! Во многих городах нашей страны прогремели залпы победного салю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19960" cy="7559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800360" y="826920"/>
            <a:ext cx="7811640" cy="4749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76360" y="5580000"/>
            <a:ext cx="7519680" cy="1618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Воздух наполнился рокотом моторов, танков и грузовиков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655640" y="684360"/>
            <a:ext cx="7848360" cy="4865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03280" y="2843280"/>
            <a:ext cx="8640360" cy="35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емецко-фашистская Германия вероломно, без объявления войны, напала на нашу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232000" y="826920"/>
            <a:ext cx="7272000" cy="45097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76360" y="3476520"/>
            <a:ext cx="842436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Фашистские самолеты бомбили города и по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792000" y="1547640"/>
            <a:ext cx="7992720" cy="49557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431640" y="900000"/>
            <a:ext cx="9897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эродромы и железнодорож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2160720" y="900000"/>
            <a:ext cx="7164000" cy="4298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503280" y="1619280"/>
            <a:ext cx="86403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Бомбы сыпались на пионерские лагеря, детские с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720720" y="1079640"/>
            <a:ext cx="8640360" cy="5400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1295280" y="1042920"/>
            <a:ext cx="704196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На больницы и жилые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326200" y="779400"/>
            <a:ext cx="3930120" cy="59529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360360" y="755640"/>
            <a:ext cx="3887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chemeClr val="accent4"/>
                </a:solidFill>
                <a:latin typeface="Arial"/>
                <a:ea typeface="SimSun"/>
              </a:rPr>
              <a:t>Фашистская Германия хотела уничтожить весь народ нашей страны. В те грозные дни начала Великой Отечественной войны, словно клятва Родине, звучала песня «Священная вой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  <Words>432</Words>
  <Paragraphs>1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44:59Z</dcterms:created>
  <dc:creator/>
  <dc:description/>
  <dc:language>en-US</dc:language>
  <cp:lastModifiedBy>Lenovo</cp:lastModifiedBy>
  <cp:lastPrinted>1601-01-01T00:00:00Z</cp:lastPrinted>
  <dcterms:modified xsi:type="dcterms:W3CDTF">2020-05-08T06:27:42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6</vt:r8>
  </property>
  <property fmtid="{D5CDD505-2E9C-101B-9397-08002B2CF9AE}" pid="3" name="PresentationFormat">
    <vt:lpwstr>Произвольный</vt:lpwstr>
  </property>
  <property fmtid="{D5CDD505-2E9C-101B-9397-08002B2CF9AE}" pid="4" name="Slides">
    <vt:r8>27</vt:r8>
  </property>
</Properties>
</file>